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D9E-898F-43FD-9BB6-074140B1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9FC-1249-47CF-999F-E4D00CCF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6EC10-9B82-44A2-A8FE-991E8BA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9D80D-1A0F-4DE1-A2BB-45E08C4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0F0B-0EC5-4162-BD7C-335A2F60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6AB5C-19C3-437A-A9EE-890B710F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8F4F6-8785-4700-93A0-2A546F40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71B55-7A85-4216-AC47-D1F6A97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D5637-9723-40C4-9C4D-C544E21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187B9-8604-4F79-B8B4-383A5928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F7D50-05EA-4CB7-935E-C19A3DF7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A19E0-33A0-4AC9-A10A-D6CB5495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3BF-B05C-44D8-8D9D-9F7C6CAE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83A8E-243D-412F-8F42-4A7DD4B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5CBDD-9572-44A5-A175-7EFA9117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387CF-4D4C-4120-A04E-CC6F63B7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6A206-A5A5-4767-A650-AA3E6C59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E48B9-D202-4B76-B718-47ACBBB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56304-8FE9-4ECD-ACA4-79DAB394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28B38-DFFB-4305-8183-56E9C69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028B0-2DED-4E1D-A5DC-3D0BECF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092FD-FA36-47C3-A3D5-6F894AA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55E3F-6261-4960-826B-48F142EE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A05-1613-4326-BE76-FE66096C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9632C-37AF-4B89-A399-1FAA7FB9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5790-F305-4D35-9C1D-709002BB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B9403-FD05-4977-892B-69072F0A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5292C-0240-4464-80C4-EB1552B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26A9B-B936-4D3D-ABB6-439A301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67E7-7F64-4361-A08B-C109B79B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A59D-9A96-40F1-86A5-4C3AC57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60736-ADAC-4546-8984-880780F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C233-541D-4227-AF54-1DEA525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46845-A3F1-47BF-8D76-CC846F4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DE5-6650-4E14-A19C-D450448E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0C0CE-3D6D-4224-BC49-4F5A774C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815F3-7200-45C9-A1A0-FD85A3B6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9841C-6511-473E-9E95-305AF34F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87E35-28C7-446D-9DD6-1B7D7F9D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F2F70-A42B-431A-9C59-639B706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D2D1F-8869-4F2B-84AB-C2C528CC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2B4E-D6D9-4D5C-904C-E2E4C45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1E1C8-7A0B-4577-81B1-54DB632B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F70BB-71D2-4E4D-BA47-04E975EC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C456-0B3E-4B48-A13E-83AF3572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F08E-EFD8-4B17-BE6C-273050B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B7EAA-8777-4542-9776-DC5AB66E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44C0A-4853-4478-9A1C-8281897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7F018-DB6D-47A1-B9CA-BB9284A2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33789-B297-4FB0-AEED-9328AE62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7825A-E80D-4C10-AECA-7451FA01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CB653-C506-4293-94CD-7E55BAE6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932CA-FC38-4B95-93B2-4A07EFAF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6F1A6-3B01-4BC9-AEA3-3878DE4D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8D4FD-9EF4-409F-B48B-699BB07D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A14E4-280F-4489-A060-5D56AABA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ACB0-F2C4-4D01-9A3B-67731CF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88403-87D3-4C86-8B41-45C00C55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45980-E7DE-4155-ACA2-A014001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6198C-4E01-4549-80F4-7AF7F45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452D8-A1D9-4E40-B2D2-95C5ADA2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49C9E-BDBD-453D-AE65-8155FBFC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6FA85-2ED1-487E-868D-7AA076BB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1A864-1137-4618-830E-1DBEC64D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2B710-F927-48A2-8C10-7B84502E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EE9DA-4461-40FE-893C-2B9AC6D6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B708B-94B8-4CB8-B680-6B2DD320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D9D-3AFF-4531-AE9B-C403FD71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928F3-E9EF-45F9-9DCC-E372E2C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A0B1D-D3FF-4B47-B17B-09C29222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C8D5D-7C70-4C8B-AC58-AC8D964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601AC-E0BA-4BD3-9DB8-C70C65C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477F9-8312-4543-AFCE-72A6AFD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222AE-3BF2-48A8-AD1A-5F51010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3B5D5-CA74-4948-BF52-60ACF318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9A6E8-4F75-4ECF-9DC1-9A395BF2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8CE6B-20DD-4867-A8C2-1E0A48E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AE54A-0E26-41D3-9C45-A99016B6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D53A-826E-4262-94C6-B944CFF8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67185-C452-401D-9D0E-C228BC6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B53DD-D50E-45C0-A7ED-23454030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E69E9-EB58-4BDC-B613-3CE1661D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4E8A9-FB2C-43A9-B401-FD8ADE32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B2ECB-16C6-4431-91E3-1011590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D1914-5203-42E0-8B39-F62F316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32831B-FBBD-439A-B51C-9B3294E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9D78C-09A3-404A-9F02-137C078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3C80D-244B-4D7F-9783-457A2E0B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21749-32CF-4A20-AD87-B955C2CB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9E2-FFE0-488D-9AF9-91EB89AA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50FCC-B918-4AE6-BC5B-779F4B0D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504E5-E3D0-42DD-9810-3F68B0BA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630BA-1B30-4560-A86D-7FA88F2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E37A6-5951-4379-9F6A-16774188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A2143-F4D9-4ECD-9353-A8102E61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A2C81-EC92-46E5-BABE-FDA814C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7D947-8107-4595-96B4-6E4C690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2D88E-4978-4FEE-A147-7BF017D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A0A977-6883-4100-98DD-16BCCD8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EED4C-345A-4207-B43C-C997CA2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637-F553-4E9C-9613-2A6D6670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41018-C173-41D2-9871-9AFEE8EB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4B381-A712-4FA6-BE06-CBAA7DF9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CCF1B-BF15-44C6-A48E-2529E97C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62469-FE32-4A39-9472-9E5E00DA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52C3B-7872-4916-80C2-91F812D1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C8E8B-23E8-4643-A216-EE64239F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1FDCA-8C1A-4F45-93E6-9F49D979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AC4AF-E19C-4F17-9800-043D31D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D85B1-E460-46F1-A39F-86ECC132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35EC4-DD6F-4576-9EA3-D47F229D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EC7-5BB1-4A5C-9971-8A77CA5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4E14-1B18-464D-914D-7E9EA38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AF7C7-BF34-4287-B14D-D2CD182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0F5F2-C3E3-4CF9-8E92-3455355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96353-5300-49E7-B8B2-31B20A32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0FF654-4B1F-4D9A-9892-09F8989F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8C2BF-1312-447A-9049-4753C23E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7661A-8100-461B-9293-2A344FA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87321-FEB2-4979-BBBB-81E00F7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493D7-8668-4B3E-A56D-4AEE9CDB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61078-F094-4B51-AE60-E02DBA33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324DA-430C-4C2D-ADE7-4BE2A053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5CF-06CE-4975-B39D-8AF28267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6D969-00B7-4527-B159-2E35121F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EA838C-1EB0-48F5-914D-777A182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AA239-F69F-4D75-ACFC-404CEBDE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62BA9-90D0-47FA-965F-68CEB7FE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1DC2F-CD0C-4FC6-89DC-758FC431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BE5C8-7314-48AE-910B-CBAA662C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30D7D-989A-463D-BDAD-25412E4E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D946B-3FBB-4EB1-BFF1-BE9D6788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44944-0390-43BA-86EB-4660EA8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74412-A229-4B93-BB94-1200F55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57F8-9717-4AF1-B9F7-84FBC8E2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1C8BE-8FA7-49DB-A6ED-397C6942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31A7E-0BFA-439F-BDB6-BF5F347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84FC9-8A0A-45D8-AB4E-EEBE3254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917D4-EC49-4DF5-B067-84A9989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EB89D-0817-402A-87F0-734281A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C4644-D84D-4EE9-BDD1-F1970A0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4FD7F-A6C9-4A2A-B505-3852BEF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D7775-4F01-4CB2-959F-3AC5FD83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441B5-D98B-4206-AB3E-3037ADF1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322A5D-837D-4F32-B861-1CD69CF7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B89E-9743-4292-ABC3-DD6FE014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04A12-E6F0-4B4F-94AE-6ED8CE2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CE7DD-210E-4026-A30B-955FA98E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8667F-26AA-4157-BD0A-6808191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0F94E-D4D2-4DB2-861D-C9C5CAB9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28AA45-1B71-4843-A1FA-F9B4E245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1FD3B-1D4C-4BAF-B383-2E67AD6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08648-96D7-499F-8E76-AFF9E1E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0E789-6CE6-4A82-A4AF-39CC0E9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1B4860-4C59-4188-A827-D70DD15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76995-AD95-4A8F-8137-3E619F6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4EE-E5BC-4DE2-A1C1-AAA910A0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D8E70-818F-4341-8661-F7991FC4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2DD2F-0FFB-435D-B061-9C86FC12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5E131-04A7-4289-9938-D355D587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4B535-EE1E-4E35-A335-921C2955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E13AF4-6CAE-4B98-9B49-ABE7EAE3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FF138-9797-4EDF-938E-C877382C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B16383-6A19-4CD9-AD30-646369D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A4153-EC8E-4A28-8170-86F00D8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AA6D7-A64A-437E-878F-BD9FEE0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B7678-E11F-4D13-B93E-707E79D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F008-22AD-4EFE-B3CF-709D32C7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1065D-88A2-44B4-A1EE-D5330A7C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EAC1B-4F86-471A-A04B-06BD1C21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4A59D-05F6-4333-B6E1-3E23C37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8314-664B-41DD-BD0B-B52AC3B9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5FA0-22B3-45FE-9FB2-28AA07A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3F2A-C624-44B1-B56A-829A11E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A990-1DD4-4624-9CFE-DC94F20E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BBB-80E2-4142-BCD9-ED225BB3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DB7A-8D91-49A6-AEE3-A3E9455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DCFC-3B26-4DC2-B4B8-73409F2B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12CE-3B0A-4086-A882-77EFA88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54B0-54E2-410A-B270-EA8C6E15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03F0-098F-4060-98AF-39FA4A8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7993-5302-43A4-A343-1438F838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788A-B40A-4B63-AF02-E226693B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2F15-255D-4565-B15D-7FF9CA08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4019-0458-48DF-B209-74A96BC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C483-1859-44F3-9AA8-D3E1FF23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AA7-0E20-44B0-AC47-DBA52714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85B2-BED9-4F97-B291-2DDC420B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B4012-9C66-4ED3-AF90-A052177E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008A-9A57-4E1B-9A83-C4C3C429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007A-9854-40EF-8BCE-CBB055D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AF62-1123-4E3D-90B9-3676CD1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2EA7-7ED8-48B0-B028-7FD541F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CE07-0A5C-4295-A46C-22C4E026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AD895-F910-4058-8EF0-6450A47E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83CEF-6EC1-40D2-8E29-DECB4653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430C-FC9E-459A-A2C3-F3651898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09C-80BB-42FA-80B2-85DBE8C3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CD92-6298-4759-8FD1-9D4552DC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AEE2-8C40-4FD5-A133-F7D42AB7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D448-004B-445D-9559-C501552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22F0-E391-4139-8255-DC560667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73A2-E9DA-42A8-A2F3-8486D90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82C6F-7DCB-4A88-91E0-394E5D0B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D9B3-4A1C-4F47-AAC0-A41B544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D774-653D-47F5-8B85-E3E01E7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4D07-0B8D-49B1-8209-2425CF7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0B55-511B-44C1-AC34-2329175C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A6B-E065-4D11-A213-C5B4841B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BD89-30AA-45D5-B68B-50859F30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BF56-770E-4ABA-9BFA-E5759D75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40A8-6BCC-4619-93A3-110ADC17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B3A4-2A01-4E0C-957E-E32A17A9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03CB7-E681-4BC8-91CF-511E0D5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A0A1D-826B-449F-8099-4B92120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8DE5-FA6A-41FE-B16C-F7E8EC3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4541-8EAC-471A-902C-68E1B3B4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1A6F-12C5-4557-99D1-F763433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1E4D9-780D-46D5-B598-0331E501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405-1B12-43B0-8D03-D91B8F3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E0D2-EC1C-43F1-A3CB-D059AEE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FFA8-95EA-4E7D-A4DA-14045D2F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5999B-F390-4F1A-A126-5CA93738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9A48-BDED-4069-8B8F-3A1390C1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E1EF-7330-4FA3-B163-D4B5C0B2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6B36A-FF59-4D2B-92C3-CD8B5F34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7920-58EF-455E-87F3-22A55F69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68F63-B623-43C4-8139-DFA20B9E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264B-0420-46F3-AFFB-F0286079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EA7B-712D-4D41-875D-71BEA4AA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96A-1B9D-486F-939C-A3D357E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CDAF-0216-4438-AC49-BAC0EA8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916A-EFD9-4FE8-A4A5-000A93B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CE689-90FF-4C5C-8DF9-907448B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AD92-9A1A-46B9-9E7B-4273D14F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F076-9060-4251-A314-9D2BACB0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E6A5-A29C-42A3-8A80-3BA5BD32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E8AEA-A17E-40DB-8344-7570F54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68CC-17ED-4776-BE53-3FF2381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6B73-04E4-420D-A7CC-76F79B2A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A30D-A2E4-4778-BA0C-50BA740D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53B-9001-4627-A4AA-FC2A468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FB47B-9F1A-4A11-892C-C6E56D9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8FC08-D891-4062-99C1-A099DF11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ACB7A-A99A-4125-9380-735AFD1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82493-A714-486F-A9E0-784C4AC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72A88-5DF5-4DA1-9A53-3E83F1BE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C8C37-27B1-4120-BF22-4FDCD9D7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97659-1994-4AA3-B261-F4092444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B960C-42C8-48F3-B9AE-1A1346B3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D6F93-5C7D-4FA8-B469-DC0D8B7B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5E7CA-C5A7-46AC-9E02-A326D62D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3A1-D96C-4397-BBAE-3D56344C7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38D-4DA5-449F-ADF7-F75A9263C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C55E-272C-4642-B1D4-B2AFEC28D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AD7-0AD3-4884-9557-129CED5255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5B59-8DD9-4CF0-9CAD-91823F185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09C-3720-493F-9362-504A74DE2E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3C65-FC62-4C14-AE97-1E314F5C5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712-72F6-406E-90E7-3CDB56FB0F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82CF-E760-4CBE-A3D2-DB53E8FE2E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8262-DC2F-4EAD-8579-E046CB105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6F0D-6563-4EBC-A485-75B6A8B2AA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CA08-4693-4379-93CD-489238F51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E57-0A3C-4D4F-87CF-EE883C845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AB1A-57C1-4B09-948C-938C84B5B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B5E-EF6A-4FE1-B661-F629B2A5E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1EA1-CDBB-4C9A-A2AF-17602E94E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C5F-4AB1-4894-BE23-A807023252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674E-F06C-4D03-B485-A520DF4FA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0D28-ABF8-45DB-A3AE-16E870347B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642-0722-41C0-B95C-541E39723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AF95-7DBA-4068-8204-0401B6287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0578-42A7-4E56-8AA9-8433084868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E086-7644-4DEA-909D-BCD4CBC42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BF85-6B60-4067-BEBB-E2DC0A597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66B-D5DB-4D47-B7AA-3DE200D4A1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38D-AA64-448C-8CC8-D473B8E87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A754-B8EA-4700-A5E3-3242ED8194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870F-CD90-4A83-90E8-AD62E5AD9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39D-7412-442A-B42E-6DC02F1A25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F20E-4FC3-4CC1-893B-DD14349207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8D3-297B-4CFD-A44F-3D9903995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F1BE-694C-4B8A-8603-DE385724AA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18E-6232-49E4-B4C5-D5B5037F8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2D03-41F0-401D-B2BB-F6424B52A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EF7C-E407-4415-9FEB-3B17CD165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B2F4-ACF3-43D2-A1C8-A274904EA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4B9-FF9B-47F4-AE01-AC84B14F9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410-DC7D-4356-941B-4AE0813859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36D-C81B-4178-B1C2-B7630E85A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492F-8C9F-4673-B0E3-0581FFC6C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2560" y="2509920"/>
            <a:ext cx="90374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4" name="图片 1" descr=""/>
          <p:cNvPicPr/>
          <p:nvPr/>
        </p:nvPicPr>
        <p:blipFill>
          <a:blip r:embed="rId1"/>
          <a:stretch/>
        </p:blipFill>
        <p:spPr>
          <a:xfrm>
            <a:off x="76320" y="804960"/>
            <a:ext cx="8991360" cy="563724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12290" descr=""/>
          <p:cNvPicPr/>
          <p:nvPr/>
        </p:nvPicPr>
        <p:blipFill>
          <a:blip r:embed="rId2"/>
          <a:stretch/>
        </p:blipFill>
        <p:spPr>
          <a:xfrm>
            <a:off x="4140360" y="2276640"/>
            <a:ext cx="1008000" cy="44424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12291" descr=""/>
          <p:cNvPicPr/>
          <p:nvPr/>
        </p:nvPicPr>
        <p:blipFill>
          <a:blip r:embed="rId3"/>
          <a:stretch/>
        </p:blipFill>
        <p:spPr>
          <a:xfrm>
            <a:off x="4327560" y="3400560"/>
            <a:ext cx="1008000" cy="4442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2292" descr=""/>
          <p:cNvPicPr/>
          <p:nvPr/>
        </p:nvPicPr>
        <p:blipFill>
          <a:blip r:embed="rId4"/>
          <a:stretch/>
        </p:blipFill>
        <p:spPr>
          <a:xfrm>
            <a:off x="7437600" y="3400560"/>
            <a:ext cx="1692000" cy="44424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12293" descr=""/>
          <p:cNvPicPr/>
          <p:nvPr/>
        </p:nvPicPr>
        <p:blipFill>
          <a:blip r:embed="rId5"/>
          <a:stretch/>
        </p:blipFill>
        <p:spPr>
          <a:xfrm>
            <a:off x="2916360" y="5675400"/>
            <a:ext cx="1266840" cy="44424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2294" descr=""/>
          <p:cNvPicPr/>
          <p:nvPr/>
        </p:nvPicPr>
        <p:blipFill>
          <a:blip r:embed="rId6"/>
          <a:stretch/>
        </p:blipFill>
        <p:spPr>
          <a:xfrm>
            <a:off x="6272280" y="5689440"/>
            <a:ext cx="12668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图片 1" descr=""/>
          <p:cNvPicPr/>
          <p:nvPr/>
        </p:nvPicPr>
        <p:blipFill>
          <a:blip r:embed="rId1"/>
          <a:stretch/>
        </p:blipFill>
        <p:spPr>
          <a:xfrm>
            <a:off x="85680" y="1728720"/>
            <a:ext cx="89726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" descr=""/>
          <p:cNvPicPr/>
          <p:nvPr/>
        </p:nvPicPr>
        <p:blipFill>
          <a:blip r:embed="rId1"/>
          <a:stretch/>
        </p:blipFill>
        <p:spPr>
          <a:xfrm>
            <a:off x="1971720" y="1757520"/>
            <a:ext cx="5200560" cy="3342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2887560" y="1844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2843280" y="2492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2843280" y="3745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2843280" y="443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54400" y="1308240"/>
            <a:ext cx="2390760" cy="6760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38120" y="2200320"/>
            <a:ext cx="8267760" cy="2457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04292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1600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299880" y="1057320"/>
            <a:ext cx="8542440" cy="4743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104292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90360" y="1905120"/>
            <a:ext cx="8961480" cy="3047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755640" y="2809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6920" y="32418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826920" y="36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826920" y="41054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755640" y="4537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809640" y="1685880"/>
            <a:ext cx="7524720" cy="34862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54764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547640" y="35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1562040" y="3903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547640" y="4365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1547640" y="47829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390600" y="2133720"/>
            <a:ext cx="8362800" cy="25905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5"/>
          <a:stretch/>
        </p:blipFill>
        <p:spPr>
          <a:xfrm>
            <a:off x="1116000" y="3846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6"/>
          <a:stretch/>
        </p:blipFill>
        <p:spPr>
          <a:xfrm>
            <a:off x="1116000" y="4278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428760" y="1190520"/>
            <a:ext cx="7751520" cy="171468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2" descr=""/>
          <p:cNvPicPr/>
          <p:nvPr/>
        </p:nvPicPr>
        <p:blipFill>
          <a:blip r:embed="rId2"/>
          <a:stretch/>
        </p:blipFill>
        <p:spPr>
          <a:xfrm>
            <a:off x="781200" y="2905200"/>
            <a:ext cx="7581600" cy="382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1116000" y="17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111600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1116000" y="465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7"/>
          <a:stretch/>
        </p:blipFill>
        <p:spPr>
          <a:xfrm>
            <a:off x="1116000" y="59500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1533600" y="1052640"/>
            <a:ext cx="6076800" cy="4752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2268360" y="1959120"/>
            <a:ext cx="360720" cy="3204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2268360" y="242100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2268360" y="280980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2268360" y="3284640"/>
            <a:ext cx="36072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400960" cy="47246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1042920" y="1542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104292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1042920" y="49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6:2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